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B42-1941-4CF8-9B5B-74FFE229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B2B-8111-4821-9AC1-C814E1B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57DB9-9752-4512-BCEC-E0AB8D6D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5DEC-EE25-43DF-A74C-AD8A5FC4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6C675-A617-4C94-81AD-682D3229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A683D-C6B3-4ED1-9FF7-7640CC4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26E74-6675-4028-A8F9-020E382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42D3F-8AA9-42ED-A32F-8EAF367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99BEE-6366-45F0-8637-184AEB56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C4CB9-703F-4892-BED4-249E3F1A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26E3F-3435-4A5F-8A3C-8922F321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5B1B-0A91-4FE5-A68E-6C20AADA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90D-A418-42D2-B18D-89B436EC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EF2D6-5EC7-4D06-AEBE-BC275875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4C346-B168-4033-9979-FEAA14E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26F9A-67B4-43D3-8A89-CD637FC8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BC8D8-0A78-44B1-B0B0-95658CC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DE8B0-31C6-481C-88E7-D7153E78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20555-623B-4631-B0F1-376D3D6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70BC-0CB5-4735-BF47-D20F6AE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64A6B-65A3-4E4C-B039-06ACCFF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FF82A-4299-4D5E-8565-8295B413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6DA9-8297-42C2-94AC-949C01F9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581-BF4A-4BC5-B82F-06B4563F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73C3F-538F-49D8-A187-BA988E08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4E2B0-EDF3-4855-9F7A-AA138FF5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7B9D8-8FF9-46E9-8D8D-B59063F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2CCFA-30D8-4F69-BFE4-2489992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6F9A9-4E47-482D-B9E9-B7DC612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E3099-4A90-44FD-9F9C-68769A6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FD87C-9CC3-453D-866B-C55BE46B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BD47F-068A-4AF1-878F-9950492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673E5-6710-46B7-A675-1441CA5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4E98-2CEB-4A7F-AFFD-606A640F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06F1-1B57-41ED-A4ED-0C821C7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71DC2-EF80-40DA-A476-799E5BB9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80F5E-B04A-448F-B7D3-8F3BE5E6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4E6FB-8779-4B8A-A6B8-08D678BB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943FD-6AF4-4B29-B5E8-905DC3D8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D7BFE-50D2-40ED-BCA9-A9F767A9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2307C-F629-4FAC-A099-A778EAC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91F97-A7C9-4A41-BC45-275EF43D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AFECF-5BCF-4285-9665-B9F3BA57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7A509-0ED3-4CA9-932C-BA7D4E50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3D848-8570-47AA-AAE1-AFB83D8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7CD-92B7-474D-8B6F-3604F3DC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AAD07-40B0-4D7A-A208-F28404C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A6BD3-2E23-4C38-A883-3029455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6F5ED-C71D-46F6-9F18-FDD734DF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65EFA-88CD-42F1-8785-C34B0101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0B20B-DC89-4467-A479-767841E3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66C2B-0158-4927-8202-26C0AC3F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5B8E3-FA5E-4710-AEC8-E6912A6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EB9AA-D61A-4331-88BD-6D1AD3CF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0C39B-7D7D-4481-A070-2EB3123B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E7984-F0A2-49FD-8869-854AB737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EF90-926A-4E5B-B763-DEF9C43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6B1AC-3522-4AE0-B3FE-B66F8B62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F1661-AC40-4311-94F7-656925F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4049F-D679-41D6-8C67-2DCE244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6B652-9801-463F-B230-3899B20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86386-B054-4C08-957B-B3984886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39809-8D16-4FC5-B96D-95CF60DF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8E1E2-A34C-431E-A419-9A22A012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1C443-E867-43F6-A049-80EBF1D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47C5C-7798-4318-9932-E45EDE3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79DFD-1650-4019-9D06-1726E106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04AA-924E-4955-A512-46B5C9D3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BAF8E-FB8C-42E9-8443-A064CFC7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32C9C-CCE0-4582-A27B-9C397C9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045C6-BE18-4A48-82CC-2BFA0C5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E9613-C437-495F-A447-5C5AB34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CA878-98D2-4B5F-8EC0-A8D8655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B4397-BF9E-4E8F-A900-1BF0AB7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4753C-D21E-4421-828A-A82A3AFD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2C896-51F9-4BC8-A23F-AF763495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1D7C2-BA26-4BA0-9776-D0EE5C26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481A0-ECB5-4413-A363-7E278414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9ED4-CCB5-4903-BAA4-203CCF85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2D422-3FA8-43AA-9CAD-431659B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077A8B-6939-49AC-AAA0-120EFE0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FEEF5-00D4-43DB-94C5-A521788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CA00E-11E6-4FED-B8E6-080A3C8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62494F-2C8F-41CE-AFBD-B8E94287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5406B-4875-42E2-A6DB-08CB9163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2A9C2-7684-4C3C-8BAA-8CCAF95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BA428-B05F-4C10-9D55-1284932D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FB058-9435-4DA4-B8B4-8D5CB196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0CC9F-1557-40E4-B50F-19A7FBBE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DA27-4C3A-4FAD-99BA-F900B27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D12AF2-F389-4F29-812A-A5274C33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5055B-FDF3-4C8D-94FB-160BD827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5A805-405F-445E-B495-D1925F6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D307A-E55D-4D8E-8B7A-5FAFDD7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CEB29-9499-4667-B1A0-62E4AE8B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4376E4-D4CE-4091-8521-4ED1C8B1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36D24-936A-4F0C-B672-EF10DFC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23FEE-CBDB-4EFA-93EF-A484A60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41BA7-C22D-4CB2-B391-70CDF091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ACFF0-9CB6-47DC-BBEF-EF5F536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C0C-8473-4423-9E3E-29C0EBE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5D444F-C20A-4715-978D-378FC9C2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5F1B8-70DB-4066-9594-D92789C9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50CC4-6118-4637-BDEE-221105B7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7D058-D73F-4772-B50E-FA3DE46F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0BA8D-3013-4D6D-9BE4-004D935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D4362-B45C-49E2-944D-A9E072A8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92D07-2724-427C-A77C-405A78C7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63ACB-9E1A-4E00-ADFA-38B59FE1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3BA36-6A59-458A-BC8F-84E0146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E1F13-C06C-41DE-8067-321EFF93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531-4404-4047-A7FA-F19AA3AF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1232-B60D-4745-95E9-5F09CAE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18AA2-A107-4352-AC53-A325667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719DB-DB92-470F-819A-42D4A84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430D9-8C58-4847-A190-1EAF13BE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F850E-7AD1-4F0A-B3AC-3F0B0366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EF812-F852-4C43-AADB-DAACAA91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9AA73-6F70-491E-8124-D44632EC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9FA75-5A63-496B-B363-37D2AF23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C7F15-2F05-4FCB-A3ED-1132314D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84032-B44D-45E1-A13A-D3A8195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802B3-A497-42C0-9757-49D8DAB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779F-CB47-4797-9DB7-BDB2021C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967B0-E7A5-42AB-BD20-C7ABF0C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12B24-C806-41A4-A29F-B9B16C2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D36F5-8746-4416-B563-62905EDA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E2687C-3B85-4F27-BD05-0D9D794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4101A-4177-4595-98F0-7271BB5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7B790-9376-450D-87CD-AA9702F1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A8B40-1114-4AE0-848B-CED4D97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A1644F-22E5-413B-BE9C-F7100B88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6A753-4DAC-4175-9853-8D8FF54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A477F-F0AC-4486-BC5D-2E0CA3C9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E03-567F-4277-8DD0-705978AE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11E1A-116E-420F-B9B3-ABAF8C0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FF620-0C93-4228-88C7-88830769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6379C-09BE-4658-8A39-23A8FF2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06AC4-BEC7-4D30-895D-2B148FE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3EC86-1DD9-45E0-A195-A7FCC12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98E98-10D3-494F-AB4F-7AF445C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3BFE0-5582-434F-9E8D-90B29E4D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E0A75-AB19-4303-8014-01EEF214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18860-5BAD-4D58-9B39-AC3ED367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D43EC-6C79-4A48-8D31-3132DA6F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C8EE-A811-4877-B8AE-9DB70F7B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0F8E7-2526-4DF6-AB68-AA3A2B2F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E10A2-AE2A-48DE-870A-FC7400C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86CA8-F2EF-48E9-8B4E-42A9DE33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99906-B3DF-4B2D-BD8A-8C92A15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FD8FC-EF0C-4DA3-92D2-E212566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07917-E5DA-49A6-A951-E5DBA5C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09A19-20D5-4089-8261-6CA56A9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F4B622-8B09-4638-A4D8-01F0A8F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9B5205-2B44-46EE-B808-9E7E663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F2C0E-88DD-4E2A-A693-7C018C37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7B4-C823-4B35-9385-6081AAE2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65BC93-0AD9-4323-8B6C-9A5A3899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7654C-A589-4BEA-BDB9-988C581F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1BEFB-D087-49ED-A4EA-033F302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66FA0-7C30-4284-ADBF-DB8433FA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2938B6-2CA8-4E2B-AB52-CB717F4B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8F7AF-DE10-4CF8-B2B2-0E5E3A9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F12A03-8931-4855-B963-2E1859C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C646F7-F642-4A5C-B668-62FD8D2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0951EE-5964-44CC-BEED-09E3976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F7F03-52BE-4216-9DEF-876079F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27C58-A3FC-4FD4-A5C2-E3258557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3809E-342D-4855-9DDE-DA71C62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DA8A5-345E-42BE-A8E0-53F1BDBF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43A184-1CBF-4322-9181-EE3C9662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7E1E-E29F-4C8C-B99E-EBE88C9B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DDA0-FAAC-4C06-A2D8-BE464B72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6D10-5FAF-4286-973A-09C78DEF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24B6-A543-4F8A-8319-35AC36E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606-1AAA-428F-8E11-8B6C9354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93CF-6555-4C9A-B440-416CEA7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B4DA-DF1C-409B-BE6A-A8981AA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2C77E-F592-4BF1-A16C-24BADD1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89F9-ABA0-4CE8-AD1E-AFDCB300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1933-56A3-43F1-A47F-9940A41F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18E5-D91C-4200-B6C9-958797C6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6CEE-21DE-4E37-8D23-D11D54C3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C286-BFBC-4E17-B7F8-3ECF5602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EBCF-60DD-4022-A19A-BAD63E12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B5E1-1E84-48F8-917D-752E0B4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7D4-FCD1-403B-8217-1D6E77F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1E1C-9108-4FC8-B18B-2D3AFD1B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4ED9-CF1A-4757-A570-B4B1B06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4672-DC03-45C5-9F68-0B937C1F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CBFD-7B39-41B0-980F-7D5F59B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66C6-1CAB-4DC0-881C-7459BD6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90CB-629C-47D0-9E37-462A200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A520-69FC-4B52-8DC5-A2441418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1BA6-212E-4D9D-B9DD-56737647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B650-44EB-43AA-960A-99CFC2B6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6FCB-D142-4585-A788-161E112E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D77-15C2-4A45-9BBB-2A9E4F5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F626-04C2-4CDE-99CD-5AC5CB91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8A27-5224-4273-B431-304B2C7A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93E1D-AA01-4BC1-BF1D-C9F7F31F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00A73-0FCF-42F7-8083-E6E70581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EF83-BC09-4758-95FF-0A579D3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7B4F-2268-4949-8C0A-04B2214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1A48-36C4-4054-B7AD-600909C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5089-16E2-4B32-8B1C-897067B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669DD-6D43-4E53-A9B6-488E52F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DB8A-A807-42AE-9811-3642A78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916-771D-4371-8803-C3D4126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4498A-99E0-4C20-A1CB-AAA08CCC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0845A-D929-406C-95EA-3635F87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3B8DC-64A5-4BFA-86CE-43D06CD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7A71-7E1C-4461-B076-E26248D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6EFE-EE69-479D-87CD-E43C5DFE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B4DB-AF78-4D47-8D06-A198540A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D9D9-24F9-4871-B029-E4508AE2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01DF3-1DAA-4E42-8D6E-F1A1EA7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0D78D-583C-4978-8B72-FC6D41B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597A-D7D6-44C0-B70E-22D6FBA3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5FA-C924-4592-B078-5AD8087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292B-C7A4-415A-93D4-199E9B86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03485-4D5E-44A6-9A61-DB294FFC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36FB-73F8-4428-8CD5-A429493C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82668-1805-4B8D-A2B0-D2EB4E91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03D06-D4D2-46C8-B669-81EF545D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234E2-E1F9-4F4F-804B-8B2A33C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39FB-5237-49D5-8AB2-024DDED5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F32B4-441A-4C3C-8B8E-879F7959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34AA0-589C-4ACD-B986-924A38E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4683-3C91-4BDD-9730-14177D0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AB3-BF42-4A15-B3A7-0FEA5C9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10B5-293B-4B25-93C5-2046468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AD2D9-FF7D-4A29-B538-C6B231A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4451-1579-432B-A1CC-C89B6E6B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5CA7D-6EC4-4DA8-B719-47ADC52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D118F-D27A-4EC5-AAE3-E8678150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AB8D-16D9-4F70-A668-5CB4C127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D526-2A5C-4FDA-A467-25C9664B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DCA34-AE20-442A-BA70-912D557B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89015-034C-4FEF-9B59-493F3140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46865-5C92-4E46-9F40-F6CB931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42D-1C87-43AB-BE52-90F382F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D47B-27BD-4879-AF95-2079FAC4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279AA-46F7-4F48-B2D3-06D4117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6F1A8-4748-4FCA-BD4E-EA57B41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3C9A7-43C1-43AE-897D-0385449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36130-B9D7-448C-BC2C-13A82EE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3C6A-21C4-4DE4-A78F-FDC8835B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98CCB-D727-487B-95D8-0162C82F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2DD8-B5E2-490B-BC29-4DF10654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4E208-CCC7-4EE7-8E4B-66A6CA18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AD472-5A65-4FBC-9AAD-2F4EAB2D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4BA3-C90F-4AB2-9235-3291C424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FAC-5FD2-4AAD-86E5-1EFA3CC06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6CD1-8AB8-4F0B-BB66-7A78D0F13B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67C0-98D3-4F2A-9465-E827375CE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125-5A8A-471B-814B-FA98E64A5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BE8E-1A5D-4425-8D44-CF9D69511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E8D-DD5C-4A15-89DA-260782CF3B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565-00B5-481E-97A3-430A95DF86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E400-EA1E-4409-BA7F-25C780206A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7B05-F91B-4114-8811-ACF0538CE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88C6-F05F-419A-9125-0571F2629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7B14-458E-4FD6-8D43-2727AAD502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7746-4A9F-431D-B7AA-321DC53A1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E6AF-AEEF-444C-B9BA-667E91FBA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18D-4AB8-41AC-91CF-809E3A3F9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5415-80C3-44FB-BF5C-A5C35A771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D0DC-BA0B-4103-9351-094FF3917F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BA79-F123-4DFF-9D32-85F57AF1C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3786-7426-4EB0-90A1-F57369967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A9C-9C94-44B2-AA13-14D27D270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5DE8-D158-493C-AC00-6B96D43A6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F87-3856-4CFA-8F69-4985A8ACE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3B8-E023-4BBD-9CFF-9BFBC01E7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EFA4-04E0-4938-A60A-0F9212752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E662-6D02-4FCB-9319-4571932EAB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9927-154F-4017-8A81-F74F5A4D7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DE1-1367-49DD-AC61-68ED29627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3F8-4EA2-478C-9B28-D73291B1D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3580-A5D6-429D-8743-FE626F819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4CB0-1D2B-47CA-BF40-E5AC0C4EF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04B6-F5FB-40B5-9ED3-77A905B3E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B395-01A4-4DF9-9D5C-0A197CCB7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001B-6F9C-455A-A11B-FFB5812EB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8F3-D9BB-49B3-9E37-A39094C6B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85A8-78F4-4D59-975C-6697E03B7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E523-CEFA-4432-BF47-48D231129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1FB-A1FA-46B1-AAA8-64AD745E01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779A-B56F-4D2F-9A22-8BB808EAB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01A1-4816-45E6-B4F9-F2ADA0752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316B-E0F2-48A9-8411-4F5884E4A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905040" y="2057400"/>
            <a:ext cx="73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56321" descr=""/>
          <p:cNvPicPr/>
          <p:nvPr/>
        </p:nvPicPr>
        <p:blipFill>
          <a:blip r:embed="rId1"/>
          <a:stretch/>
        </p:blipFill>
        <p:spPr>
          <a:xfrm>
            <a:off x="293760" y="1069920"/>
            <a:ext cx="8076960" cy="2752920"/>
          </a:xfrm>
          <a:prstGeom prst="rect">
            <a:avLst/>
          </a:prstGeom>
          <a:ln w="0">
            <a:noFill/>
          </a:ln>
        </p:spPr>
      </p:pic>
      <p:sp>
        <p:nvSpPr>
          <p:cNvPr id="1076" name="矩形 56322"/>
          <p:cNvSpPr/>
          <p:nvPr/>
        </p:nvSpPr>
        <p:spPr>
          <a:xfrm>
            <a:off x="1165320" y="1836720"/>
            <a:ext cx="72230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56323"/>
          <p:cNvSpPr/>
          <p:nvPr/>
        </p:nvSpPr>
        <p:spPr>
          <a:xfrm>
            <a:off x="1096920" y="3019320"/>
            <a:ext cx="72230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56324"/>
          <p:cNvSpPr/>
          <p:nvPr/>
        </p:nvSpPr>
        <p:spPr>
          <a:xfrm>
            <a:off x="1114560" y="3448080"/>
            <a:ext cx="72230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55297" descr=""/>
          <p:cNvPicPr/>
          <p:nvPr/>
        </p:nvPicPr>
        <p:blipFill>
          <a:blip r:embed="rId1"/>
          <a:stretch/>
        </p:blipFill>
        <p:spPr>
          <a:xfrm>
            <a:off x="387360" y="922320"/>
            <a:ext cx="8029440" cy="4772160"/>
          </a:xfrm>
          <a:prstGeom prst="rect">
            <a:avLst/>
          </a:prstGeom>
          <a:ln w="0">
            <a:noFill/>
          </a:ln>
        </p:spPr>
      </p:pic>
      <p:sp>
        <p:nvSpPr>
          <p:cNvPr id="1080" name="矩形 55298"/>
          <p:cNvSpPr/>
          <p:nvPr/>
        </p:nvSpPr>
        <p:spPr>
          <a:xfrm>
            <a:off x="930240" y="1692360"/>
            <a:ext cx="75344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55299"/>
          <p:cNvSpPr/>
          <p:nvPr/>
        </p:nvSpPr>
        <p:spPr>
          <a:xfrm>
            <a:off x="820800" y="2103480"/>
            <a:ext cx="7584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55300"/>
          <p:cNvSpPr/>
          <p:nvPr/>
        </p:nvSpPr>
        <p:spPr>
          <a:xfrm>
            <a:off x="787320" y="249876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55301"/>
          <p:cNvSpPr/>
          <p:nvPr/>
        </p:nvSpPr>
        <p:spPr>
          <a:xfrm>
            <a:off x="787320" y="2892600"/>
            <a:ext cx="758520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55302"/>
          <p:cNvSpPr/>
          <p:nvPr/>
        </p:nvSpPr>
        <p:spPr>
          <a:xfrm>
            <a:off x="871560" y="3295800"/>
            <a:ext cx="7585200" cy="34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55303"/>
          <p:cNvSpPr/>
          <p:nvPr/>
        </p:nvSpPr>
        <p:spPr>
          <a:xfrm>
            <a:off x="905040" y="4470480"/>
            <a:ext cx="758484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55304"/>
          <p:cNvSpPr/>
          <p:nvPr/>
        </p:nvSpPr>
        <p:spPr>
          <a:xfrm>
            <a:off x="896760" y="485604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55305"/>
          <p:cNvSpPr/>
          <p:nvPr/>
        </p:nvSpPr>
        <p:spPr>
          <a:xfrm>
            <a:off x="896760" y="5267160"/>
            <a:ext cx="75852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54273" descr=""/>
          <p:cNvPicPr/>
          <p:nvPr/>
        </p:nvPicPr>
        <p:blipFill>
          <a:blip r:embed="rId1"/>
          <a:stretch/>
        </p:blipFill>
        <p:spPr>
          <a:xfrm>
            <a:off x="423720" y="806400"/>
            <a:ext cx="81439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53249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96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52225" descr=""/>
          <p:cNvPicPr/>
          <p:nvPr/>
        </p:nvPicPr>
        <p:blipFill>
          <a:blip r:embed="rId1"/>
          <a:stretch/>
        </p:blipFill>
        <p:spPr>
          <a:xfrm>
            <a:off x="357120" y="1168560"/>
            <a:ext cx="8153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图片 51201" descr=""/>
          <p:cNvPicPr/>
          <p:nvPr/>
        </p:nvPicPr>
        <p:blipFill>
          <a:blip r:embed="rId1"/>
          <a:stretch/>
        </p:blipFill>
        <p:spPr>
          <a:xfrm>
            <a:off x="341280" y="87300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1092" name="矩形 51202"/>
          <p:cNvSpPr/>
          <p:nvPr/>
        </p:nvSpPr>
        <p:spPr>
          <a:xfrm>
            <a:off x="6292800" y="1332000"/>
            <a:ext cx="17096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51203"/>
          <p:cNvSpPr/>
          <p:nvPr/>
        </p:nvSpPr>
        <p:spPr>
          <a:xfrm>
            <a:off x="5202360" y="1827360"/>
            <a:ext cx="3017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51204"/>
          <p:cNvSpPr/>
          <p:nvPr/>
        </p:nvSpPr>
        <p:spPr>
          <a:xfrm>
            <a:off x="3726000" y="2313000"/>
            <a:ext cx="34210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51205"/>
          <p:cNvSpPr/>
          <p:nvPr/>
        </p:nvSpPr>
        <p:spPr>
          <a:xfrm>
            <a:off x="4002120" y="2790720"/>
            <a:ext cx="2004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51206"/>
          <p:cNvSpPr/>
          <p:nvPr/>
        </p:nvSpPr>
        <p:spPr>
          <a:xfrm>
            <a:off x="7122960" y="3313080"/>
            <a:ext cx="444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50177" descr=""/>
          <p:cNvPicPr/>
          <p:nvPr/>
        </p:nvPicPr>
        <p:blipFill>
          <a:blip r:embed="rId1"/>
          <a:stretch/>
        </p:blipFill>
        <p:spPr>
          <a:xfrm>
            <a:off x="189000" y="1012680"/>
            <a:ext cx="8134200" cy="3105360"/>
          </a:xfrm>
          <a:prstGeom prst="rect">
            <a:avLst/>
          </a:prstGeom>
          <a:ln w="0">
            <a:noFill/>
          </a:ln>
        </p:spPr>
      </p:pic>
      <p:sp>
        <p:nvSpPr>
          <p:cNvPr id="1098" name="矩形 50178"/>
          <p:cNvSpPr/>
          <p:nvPr/>
        </p:nvSpPr>
        <p:spPr>
          <a:xfrm>
            <a:off x="6804000" y="97956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73729" descr=""/>
          <p:cNvPicPr/>
          <p:nvPr/>
        </p:nvPicPr>
        <p:blipFill>
          <a:blip r:embed="rId1"/>
          <a:stretch/>
        </p:blipFill>
        <p:spPr>
          <a:xfrm>
            <a:off x="243000" y="885960"/>
            <a:ext cx="8076960" cy="3276360"/>
          </a:xfrm>
          <a:prstGeom prst="rect">
            <a:avLst/>
          </a:prstGeom>
          <a:ln w="0">
            <a:noFill/>
          </a:ln>
        </p:spPr>
      </p:pic>
      <p:sp>
        <p:nvSpPr>
          <p:cNvPr id="1100" name="矩形 73730"/>
          <p:cNvSpPr/>
          <p:nvPr/>
        </p:nvSpPr>
        <p:spPr>
          <a:xfrm>
            <a:off x="1317600" y="166068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73731"/>
          <p:cNvSpPr/>
          <p:nvPr/>
        </p:nvSpPr>
        <p:spPr>
          <a:xfrm>
            <a:off x="1258920" y="207972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73732"/>
          <p:cNvSpPr/>
          <p:nvPr/>
        </p:nvSpPr>
        <p:spPr>
          <a:xfrm>
            <a:off x="1284120" y="290988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73733"/>
          <p:cNvSpPr/>
          <p:nvPr/>
        </p:nvSpPr>
        <p:spPr>
          <a:xfrm>
            <a:off x="1317600" y="3319560"/>
            <a:ext cx="695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73734"/>
          <p:cNvSpPr/>
          <p:nvPr/>
        </p:nvSpPr>
        <p:spPr>
          <a:xfrm>
            <a:off x="1258920" y="3747960"/>
            <a:ext cx="6954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74753" descr=""/>
          <p:cNvPicPr/>
          <p:nvPr/>
        </p:nvPicPr>
        <p:blipFill>
          <a:blip r:embed="rId1"/>
          <a:stretch/>
        </p:blipFill>
        <p:spPr>
          <a:xfrm>
            <a:off x="158760" y="968400"/>
            <a:ext cx="7991640" cy="4096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74754" descr=""/>
          <p:cNvPicPr/>
          <p:nvPr/>
        </p:nvPicPr>
        <p:blipFill>
          <a:blip r:embed="rId2"/>
          <a:stretch/>
        </p:blipFill>
        <p:spPr>
          <a:xfrm>
            <a:off x="754200" y="1438200"/>
            <a:ext cx="7448400" cy="819360"/>
          </a:xfrm>
          <a:prstGeom prst="rect">
            <a:avLst/>
          </a:prstGeom>
          <a:ln w="0">
            <a:noFill/>
          </a:ln>
        </p:spPr>
      </p:pic>
      <p:sp>
        <p:nvSpPr>
          <p:cNvPr id="1107" name="矩形 74755"/>
          <p:cNvSpPr/>
          <p:nvPr/>
        </p:nvSpPr>
        <p:spPr>
          <a:xfrm>
            <a:off x="4732200" y="912960"/>
            <a:ext cx="1535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74756"/>
          <p:cNvSpPr/>
          <p:nvPr/>
        </p:nvSpPr>
        <p:spPr>
          <a:xfrm>
            <a:off x="3649680" y="1425600"/>
            <a:ext cx="15350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74757"/>
          <p:cNvSpPr/>
          <p:nvPr/>
        </p:nvSpPr>
        <p:spPr>
          <a:xfrm>
            <a:off x="1785960" y="1844640"/>
            <a:ext cx="30542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75777" descr=""/>
          <p:cNvPicPr/>
          <p:nvPr/>
        </p:nvPicPr>
        <p:blipFill>
          <a:blip r:embed="rId1"/>
          <a:stretch/>
        </p:blipFill>
        <p:spPr>
          <a:xfrm>
            <a:off x="509760" y="1147680"/>
            <a:ext cx="80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291960" y="873000"/>
            <a:ext cx="8115480" cy="54864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5695920" y="183528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图片 76801" descr=""/>
          <p:cNvPicPr/>
          <p:nvPr/>
        </p:nvPicPr>
        <p:blipFill>
          <a:blip r:embed="rId1"/>
          <a:stretch/>
        </p:blipFill>
        <p:spPr>
          <a:xfrm>
            <a:off x="252360" y="1114560"/>
            <a:ext cx="8077320" cy="2543040"/>
          </a:xfrm>
          <a:prstGeom prst="rect">
            <a:avLst/>
          </a:prstGeom>
          <a:ln w="0">
            <a:noFill/>
          </a:ln>
        </p:spPr>
      </p:pic>
      <p:sp>
        <p:nvSpPr>
          <p:cNvPr id="1112" name="矩形 76802"/>
          <p:cNvSpPr/>
          <p:nvPr/>
        </p:nvSpPr>
        <p:spPr>
          <a:xfrm>
            <a:off x="5521320" y="1467000"/>
            <a:ext cx="2063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76803"/>
          <p:cNvSpPr/>
          <p:nvPr/>
        </p:nvSpPr>
        <p:spPr>
          <a:xfrm>
            <a:off x="3708360" y="1962000"/>
            <a:ext cx="1049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76804"/>
          <p:cNvSpPr/>
          <p:nvPr/>
        </p:nvSpPr>
        <p:spPr>
          <a:xfrm>
            <a:off x="3598920" y="2843280"/>
            <a:ext cx="2840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76805"/>
          <p:cNvSpPr/>
          <p:nvPr/>
        </p:nvSpPr>
        <p:spPr>
          <a:xfrm>
            <a:off x="7037280" y="2851200"/>
            <a:ext cx="284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77825" descr=""/>
          <p:cNvPicPr/>
          <p:nvPr/>
        </p:nvPicPr>
        <p:blipFill>
          <a:blip r:embed="rId1"/>
          <a:stretch/>
        </p:blipFill>
        <p:spPr>
          <a:xfrm>
            <a:off x="230040" y="1057320"/>
            <a:ext cx="8067960" cy="2914560"/>
          </a:xfrm>
          <a:prstGeom prst="rect">
            <a:avLst/>
          </a:prstGeom>
          <a:ln w="0">
            <a:noFill/>
          </a:ln>
        </p:spPr>
      </p:pic>
      <p:sp>
        <p:nvSpPr>
          <p:cNvPr id="1117" name="矩形 77826"/>
          <p:cNvSpPr/>
          <p:nvPr/>
        </p:nvSpPr>
        <p:spPr>
          <a:xfrm>
            <a:off x="1276200" y="189396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77827"/>
          <p:cNvSpPr/>
          <p:nvPr/>
        </p:nvSpPr>
        <p:spPr>
          <a:xfrm>
            <a:off x="1116000" y="231300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77828"/>
          <p:cNvSpPr/>
          <p:nvPr/>
        </p:nvSpPr>
        <p:spPr>
          <a:xfrm>
            <a:off x="1149480" y="3117960"/>
            <a:ext cx="7113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矩形 77829"/>
          <p:cNvSpPr/>
          <p:nvPr/>
        </p:nvSpPr>
        <p:spPr>
          <a:xfrm>
            <a:off x="1182600" y="3538440"/>
            <a:ext cx="7113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78849" descr=""/>
          <p:cNvPicPr/>
          <p:nvPr/>
        </p:nvPicPr>
        <p:blipFill>
          <a:blip r:embed="rId1"/>
          <a:stretch/>
        </p:blipFill>
        <p:spPr>
          <a:xfrm>
            <a:off x="322200" y="984240"/>
            <a:ext cx="8105760" cy="5229360"/>
          </a:xfrm>
          <a:prstGeom prst="rect">
            <a:avLst/>
          </a:prstGeom>
          <a:ln w="0">
            <a:noFill/>
          </a:ln>
        </p:spPr>
      </p:pic>
      <p:sp>
        <p:nvSpPr>
          <p:cNvPr id="1122" name="矩形 78850"/>
          <p:cNvSpPr/>
          <p:nvPr/>
        </p:nvSpPr>
        <p:spPr>
          <a:xfrm>
            <a:off x="7542360" y="95400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79873" descr=""/>
          <p:cNvPicPr/>
          <p:nvPr/>
        </p:nvPicPr>
        <p:blipFill>
          <a:blip r:embed="rId1"/>
          <a:stretch/>
        </p:blipFill>
        <p:spPr>
          <a:xfrm>
            <a:off x="317520" y="1206360"/>
            <a:ext cx="7962840" cy="3248280"/>
          </a:xfrm>
          <a:prstGeom prst="rect">
            <a:avLst/>
          </a:prstGeom>
          <a:ln w="0">
            <a:noFill/>
          </a:ln>
        </p:spPr>
      </p:pic>
      <p:sp>
        <p:nvSpPr>
          <p:cNvPr id="1124" name="矩形 79874"/>
          <p:cNvSpPr/>
          <p:nvPr/>
        </p:nvSpPr>
        <p:spPr>
          <a:xfrm>
            <a:off x="814320" y="2390760"/>
            <a:ext cx="76852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矩形 79875"/>
          <p:cNvSpPr/>
          <p:nvPr/>
        </p:nvSpPr>
        <p:spPr>
          <a:xfrm>
            <a:off x="771480" y="280980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79876"/>
          <p:cNvSpPr/>
          <p:nvPr/>
        </p:nvSpPr>
        <p:spPr>
          <a:xfrm>
            <a:off x="720720" y="322884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矩形 79877"/>
          <p:cNvSpPr/>
          <p:nvPr/>
        </p:nvSpPr>
        <p:spPr>
          <a:xfrm>
            <a:off x="695160" y="3639960"/>
            <a:ext cx="770112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79878"/>
          <p:cNvSpPr/>
          <p:nvPr/>
        </p:nvSpPr>
        <p:spPr>
          <a:xfrm>
            <a:off x="695160" y="4051440"/>
            <a:ext cx="770112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80897" descr=""/>
          <p:cNvPicPr/>
          <p:nvPr/>
        </p:nvPicPr>
        <p:blipFill>
          <a:blip r:embed="rId1"/>
          <a:stretch/>
        </p:blipFill>
        <p:spPr>
          <a:xfrm>
            <a:off x="380880" y="973080"/>
            <a:ext cx="7972560" cy="4295880"/>
          </a:xfrm>
          <a:prstGeom prst="rect">
            <a:avLst/>
          </a:prstGeom>
          <a:ln w="0">
            <a:noFill/>
          </a:ln>
        </p:spPr>
      </p:pic>
      <p:sp>
        <p:nvSpPr>
          <p:cNvPr id="1130" name="矩形 80898"/>
          <p:cNvSpPr/>
          <p:nvPr/>
        </p:nvSpPr>
        <p:spPr>
          <a:xfrm>
            <a:off x="638280" y="1652760"/>
            <a:ext cx="7448400" cy="32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2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86680" cy="50673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63490"/>
          <p:cNvSpPr/>
          <p:nvPr/>
        </p:nvSpPr>
        <p:spPr>
          <a:xfrm>
            <a:off x="5586480" y="135720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3491"/>
          <p:cNvSpPr/>
          <p:nvPr/>
        </p:nvSpPr>
        <p:spPr>
          <a:xfrm>
            <a:off x="4362480" y="1827360"/>
            <a:ext cx="1703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3492"/>
          <p:cNvSpPr/>
          <p:nvPr/>
        </p:nvSpPr>
        <p:spPr>
          <a:xfrm>
            <a:off x="3908520" y="2281320"/>
            <a:ext cx="8380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3493"/>
          <p:cNvSpPr/>
          <p:nvPr/>
        </p:nvSpPr>
        <p:spPr>
          <a:xfrm>
            <a:off x="4454640" y="2741760"/>
            <a:ext cx="42116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3494"/>
          <p:cNvSpPr/>
          <p:nvPr/>
        </p:nvSpPr>
        <p:spPr>
          <a:xfrm>
            <a:off x="1282680" y="322884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63495"/>
          <p:cNvSpPr/>
          <p:nvPr/>
        </p:nvSpPr>
        <p:spPr>
          <a:xfrm>
            <a:off x="4033800" y="3683160"/>
            <a:ext cx="16606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3496"/>
          <p:cNvSpPr/>
          <p:nvPr/>
        </p:nvSpPr>
        <p:spPr>
          <a:xfrm>
            <a:off x="3992400" y="4135320"/>
            <a:ext cx="4656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63497"/>
          <p:cNvSpPr/>
          <p:nvPr/>
        </p:nvSpPr>
        <p:spPr>
          <a:xfrm>
            <a:off x="1442880" y="4587840"/>
            <a:ext cx="12240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63498"/>
          <p:cNvSpPr/>
          <p:nvPr/>
        </p:nvSpPr>
        <p:spPr>
          <a:xfrm>
            <a:off x="4654440" y="5067360"/>
            <a:ext cx="8384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3499"/>
          <p:cNvSpPr/>
          <p:nvPr/>
        </p:nvSpPr>
        <p:spPr>
          <a:xfrm>
            <a:off x="5191200" y="5537160"/>
            <a:ext cx="8380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62465" descr=""/>
          <p:cNvPicPr/>
          <p:nvPr/>
        </p:nvPicPr>
        <p:blipFill>
          <a:blip r:embed="rId1"/>
          <a:stretch/>
        </p:blipFill>
        <p:spPr>
          <a:xfrm>
            <a:off x="309600" y="1003320"/>
            <a:ext cx="8115120" cy="4800600"/>
          </a:xfrm>
          <a:prstGeom prst="rect">
            <a:avLst/>
          </a:prstGeom>
          <a:ln w="0">
            <a:noFill/>
          </a:ln>
        </p:spPr>
      </p:pic>
      <p:sp>
        <p:nvSpPr>
          <p:cNvPr id="1037" name="矩形 62466"/>
          <p:cNvSpPr/>
          <p:nvPr/>
        </p:nvSpPr>
        <p:spPr>
          <a:xfrm>
            <a:off x="2004840" y="139068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62467"/>
          <p:cNvSpPr/>
          <p:nvPr/>
        </p:nvSpPr>
        <p:spPr>
          <a:xfrm>
            <a:off x="1996920" y="182736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62468"/>
          <p:cNvSpPr/>
          <p:nvPr/>
        </p:nvSpPr>
        <p:spPr>
          <a:xfrm>
            <a:off x="3565440" y="1827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62469"/>
          <p:cNvSpPr/>
          <p:nvPr/>
        </p:nvSpPr>
        <p:spPr>
          <a:xfrm>
            <a:off x="1644480" y="2254320"/>
            <a:ext cx="2098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62470"/>
          <p:cNvSpPr/>
          <p:nvPr/>
        </p:nvSpPr>
        <p:spPr>
          <a:xfrm>
            <a:off x="286848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2471"/>
          <p:cNvSpPr/>
          <p:nvPr/>
        </p:nvSpPr>
        <p:spPr>
          <a:xfrm>
            <a:off x="459756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2472"/>
          <p:cNvSpPr/>
          <p:nvPr/>
        </p:nvSpPr>
        <p:spPr>
          <a:xfrm>
            <a:off x="6527880" y="225432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62473"/>
          <p:cNvSpPr/>
          <p:nvPr/>
        </p:nvSpPr>
        <p:spPr>
          <a:xfrm>
            <a:off x="1654200" y="2673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62474"/>
          <p:cNvSpPr/>
          <p:nvPr/>
        </p:nvSpPr>
        <p:spPr>
          <a:xfrm>
            <a:off x="3222720" y="2673360"/>
            <a:ext cx="2095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62475"/>
          <p:cNvSpPr/>
          <p:nvPr/>
        </p:nvSpPr>
        <p:spPr>
          <a:xfrm>
            <a:off x="6643800" y="311148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1441" descr=""/>
          <p:cNvPicPr/>
          <p:nvPr/>
        </p:nvPicPr>
        <p:blipFill>
          <a:blip r:embed="rId1"/>
          <a:stretch/>
        </p:blipFill>
        <p:spPr>
          <a:xfrm>
            <a:off x="339840" y="982800"/>
            <a:ext cx="8105760" cy="32860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61442"/>
          <p:cNvSpPr/>
          <p:nvPr/>
        </p:nvSpPr>
        <p:spPr>
          <a:xfrm>
            <a:off x="1184400" y="1467000"/>
            <a:ext cx="4442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60417" descr=""/>
          <p:cNvPicPr/>
          <p:nvPr/>
        </p:nvPicPr>
        <p:blipFill>
          <a:blip r:embed="rId1"/>
          <a:stretch/>
        </p:blipFill>
        <p:spPr>
          <a:xfrm>
            <a:off x="330120" y="960480"/>
            <a:ext cx="8020080" cy="187632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0418" descr=""/>
          <p:cNvPicPr/>
          <p:nvPr/>
        </p:nvPicPr>
        <p:blipFill>
          <a:blip r:embed="rId2"/>
          <a:stretch/>
        </p:blipFill>
        <p:spPr>
          <a:xfrm>
            <a:off x="809640" y="2919240"/>
            <a:ext cx="3848040" cy="933480"/>
          </a:xfrm>
          <a:prstGeom prst="rect">
            <a:avLst/>
          </a:prstGeom>
          <a:ln w="0">
            <a:noFill/>
          </a:ln>
        </p:spPr>
      </p:pic>
      <p:sp>
        <p:nvSpPr>
          <p:cNvPr id="1051" name="矩形 60419"/>
          <p:cNvSpPr/>
          <p:nvPr/>
        </p:nvSpPr>
        <p:spPr>
          <a:xfrm>
            <a:off x="1233360" y="1398600"/>
            <a:ext cx="4446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59393" descr=""/>
          <p:cNvPicPr/>
          <p:nvPr/>
        </p:nvPicPr>
        <p:blipFill>
          <a:blip r:embed="rId1"/>
          <a:stretch/>
        </p:blipFill>
        <p:spPr>
          <a:xfrm>
            <a:off x="344520" y="973080"/>
            <a:ext cx="8115120" cy="3714840"/>
          </a:xfrm>
          <a:prstGeom prst="rect">
            <a:avLst/>
          </a:prstGeom>
          <a:ln w="0">
            <a:noFill/>
          </a:ln>
        </p:spPr>
      </p:pic>
      <p:sp>
        <p:nvSpPr>
          <p:cNvPr id="1053" name="矩形 59394"/>
          <p:cNvSpPr/>
          <p:nvPr/>
        </p:nvSpPr>
        <p:spPr>
          <a:xfrm>
            <a:off x="4756320" y="1382760"/>
            <a:ext cx="76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9395"/>
          <p:cNvSpPr/>
          <p:nvPr/>
        </p:nvSpPr>
        <p:spPr>
          <a:xfrm>
            <a:off x="7246800" y="1382760"/>
            <a:ext cx="763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9396"/>
          <p:cNvSpPr/>
          <p:nvPr/>
        </p:nvSpPr>
        <p:spPr>
          <a:xfrm>
            <a:off x="4991040" y="180972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9397"/>
          <p:cNvSpPr/>
          <p:nvPr/>
        </p:nvSpPr>
        <p:spPr>
          <a:xfrm>
            <a:off x="6937200" y="1809720"/>
            <a:ext cx="763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59398"/>
          <p:cNvSpPr/>
          <p:nvPr/>
        </p:nvSpPr>
        <p:spPr>
          <a:xfrm>
            <a:off x="2021040" y="222084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9399"/>
          <p:cNvSpPr/>
          <p:nvPr/>
        </p:nvSpPr>
        <p:spPr>
          <a:xfrm>
            <a:off x="4622760" y="2220840"/>
            <a:ext cx="763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9400"/>
          <p:cNvSpPr/>
          <p:nvPr/>
        </p:nvSpPr>
        <p:spPr>
          <a:xfrm>
            <a:off x="2341440" y="2631960"/>
            <a:ext cx="15098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9401"/>
          <p:cNvSpPr/>
          <p:nvPr/>
        </p:nvSpPr>
        <p:spPr>
          <a:xfrm>
            <a:off x="4211640" y="3462480"/>
            <a:ext cx="188748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59402"/>
          <p:cNvSpPr/>
          <p:nvPr/>
        </p:nvSpPr>
        <p:spPr>
          <a:xfrm>
            <a:off x="6878520" y="3462480"/>
            <a:ext cx="15433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9403"/>
          <p:cNvSpPr/>
          <p:nvPr/>
        </p:nvSpPr>
        <p:spPr>
          <a:xfrm>
            <a:off x="1308240" y="3890880"/>
            <a:ext cx="4442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9404"/>
          <p:cNvSpPr/>
          <p:nvPr/>
        </p:nvSpPr>
        <p:spPr>
          <a:xfrm>
            <a:off x="2558880" y="3890880"/>
            <a:ext cx="2901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58369" descr=""/>
          <p:cNvPicPr/>
          <p:nvPr/>
        </p:nvPicPr>
        <p:blipFill>
          <a:blip r:embed="rId1"/>
          <a:stretch/>
        </p:blipFill>
        <p:spPr>
          <a:xfrm>
            <a:off x="682560" y="1095480"/>
            <a:ext cx="7658280" cy="4600440"/>
          </a:xfrm>
          <a:prstGeom prst="rect">
            <a:avLst/>
          </a:prstGeom>
          <a:ln w="0">
            <a:noFill/>
          </a:ln>
        </p:spPr>
      </p:pic>
      <p:sp>
        <p:nvSpPr>
          <p:cNvPr id="1065" name="矩形 58370"/>
          <p:cNvSpPr/>
          <p:nvPr/>
        </p:nvSpPr>
        <p:spPr>
          <a:xfrm>
            <a:off x="6308640" y="1919160"/>
            <a:ext cx="20383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8371"/>
          <p:cNvSpPr/>
          <p:nvPr/>
        </p:nvSpPr>
        <p:spPr>
          <a:xfrm>
            <a:off x="1131840" y="2320920"/>
            <a:ext cx="781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58372"/>
          <p:cNvSpPr/>
          <p:nvPr/>
        </p:nvSpPr>
        <p:spPr>
          <a:xfrm>
            <a:off x="7448400" y="2338560"/>
            <a:ext cx="7812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58373"/>
          <p:cNvSpPr/>
          <p:nvPr/>
        </p:nvSpPr>
        <p:spPr>
          <a:xfrm>
            <a:off x="1096920" y="2757600"/>
            <a:ext cx="16113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58374"/>
          <p:cNvSpPr/>
          <p:nvPr/>
        </p:nvSpPr>
        <p:spPr>
          <a:xfrm>
            <a:off x="1130400" y="3990960"/>
            <a:ext cx="71895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58375"/>
          <p:cNvSpPr/>
          <p:nvPr/>
        </p:nvSpPr>
        <p:spPr>
          <a:xfrm>
            <a:off x="1130400" y="4427640"/>
            <a:ext cx="718956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58376"/>
          <p:cNvSpPr/>
          <p:nvPr/>
        </p:nvSpPr>
        <p:spPr>
          <a:xfrm>
            <a:off x="1163520" y="4846680"/>
            <a:ext cx="7189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58377"/>
          <p:cNvSpPr/>
          <p:nvPr/>
        </p:nvSpPr>
        <p:spPr>
          <a:xfrm>
            <a:off x="1163520" y="5257800"/>
            <a:ext cx="71899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57345" descr=""/>
          <p:cNvPicPr/>
          <p:nvPr/>
        </p:nvPicPr>
        <p:blipFill>
          <a:blip r:embed="rId1"/>
          <a:stretch/>
        </p:blipFill>
        <p:spPr>
          <a:xfrm>
            <a:off x="444600" y="1038240"/>
            <a:ext cx="7896240" cy="3857760"/>
          </a:xfrm>
          <a:prstGeom prst="rect">
            <a:avLst/>
          </a:prstGeom>
          <a:ln w="0">
            <a:noFill/>
          </a:ln>
        </p:spPr>
      </p:pic>
      <p:sp>
        <p:nvSpPr>
          <p:cNvPr id="1074" name="矩形 57346"/>
          <p:cNvSpPr/>
          <p:nvPr/>
        </p:nvSpPr>
        <p:spPr>
          <a:xfrm>
            <a:off x="7643880" y="2523960"/>
            <a:ext cx="4446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5T01:25:53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